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E22D-4A20-4A24-8C85-7D51DC77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585B-5FAD-445D-ACCB-4BCCED9F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83E5-AFAE-444C-9C3A-4AE157DD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D827-E6A6-4CC7-92EF-9647B6AA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3F71-92CC-43D0-BB40-C88FF327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DBE3-E5C2-4F08-BEC3-EBECC5A1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BC1A-FBF4-4074-9CE0-CC7EA8B7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F907-E70D-4D38-BA39-7F99BA62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E442-187E-4D30-92D4-1EC9CA87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0D59-67D4-40A5-886A-4132E7A9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FD7A-C6FB-4674-BC73-49FC870F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7729-585C-4242-AE32-7386EE5B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E21D-68EC-4C72-83BE-062CBD83C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Alternative to Lord’s Prayer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Eternal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Earth-maker, Pain-bear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ve-mak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ource of all that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at shall b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ather and Mother of us all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ving God, in whom is heav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hallowing of your name ech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the univers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way of your just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e follow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all peoples of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heavenly will be d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all created being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commonwealth of pe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free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stain our hop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come on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the bread we need for toda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eed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hurts we absor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one another, forgiv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imes of temptation and te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trengthe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4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trials too great to endu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par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the grip of all that is evi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e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you reign in the glo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power that is lov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w and forev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5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57:47Z</dcterms:created>
  <dc:creator>Anon Anon</dc:creator>
  <dc:description/>
  <dc:language>en-US</dc:language>
  <cp:lastModifiedBy>Anon Anon</cp:lastModifiedBy>
  <dcterms:modified xsi:type="dcterms:W3CDTF">2005-08-09T05:42:05Z</dcterms:modified>
  <cp:revision>10</cp:revision>
  <dc:subject/>
  <dc:title>Alternative to Lord’s Prayer (SLD-2)</dc:title>
</cp:coreProperties>
</file>